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2DE-3B84-48FD-91DE-E1B660B5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D41-8B64-4933-9B18-56A9C7A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EC3-4DC8-49F7-83AC-2F1227CD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F77-370B-4CAB-8EF2-D1879C8A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70A-FDA6-48C7-B141-11206677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B66-1131-45CD-8B67-CB64D2F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66-05D0-48D0-B6DA-54A5F721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992-3A6F-4101-BC08-A61324A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CF7-2705-45C8-85CE-EB4238A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7EF-F130-4BFD-99FE-ABC186A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707-E20B-4399-8E5D-181A8A0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1D9-AD7A-454E-9B1B-2DAA72B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2B52-4E18-4461-AF85-A1E90866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4190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267080"/>
            <a:ext cx="18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ivot M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480" y="228600"/>
            <a:ext cx="9077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719280"/>
            <a:ext cx="86392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360" y="480960"/>
            <a:ext cx="9125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46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0-02-09T22:15:07Z</dcterms:modified>
  <cp:revision>6</cp:revision>
  <dc:subject/>
  <dc:title>Slide 1</dc:title>
</cp:coreProperties>
</file>